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12038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0" y="0"/>
            <a:ext cx="6858000" cy="1203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dt" idx="9"/>
          </p:nvPr>
        </p:nvSpPr>
        <p:spPr>
          <a:xfrm>
            <a:off x="3885840" y="-3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Img"/>
          </p:nvPr>
        </p:nvSpPr>
        <p:spPr>
          <a:xfrm>
            <a:off x="419040" y="902880"/>
            <a:ext cx="6019920" cy="451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ftr" idx="10"/>
          </p:nvPr>
        </p:nvSpPr>
        <p:spPr>
          <a:xfrm>
            <a:off x="-36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 type="sldNum" idx="11"/>
          </p:nvPr>
        </p:nvSpPr>
        <p:spPr>
          <a:xfrm>
            <a:off x="3885840" y="11437560"/>
            <a:ext cx="2971800" cy="601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BC1A3B5-10DA-48C2-84F8-60D7DCD9F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AD12264-EA35-4789-85E6-C47445DE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5719680"/>
            <a:ext cx="54864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11434680"/>
            <a:ext cx="297180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388F-A67F-4088-AC87-66745CED7CAE}" type="slidenum">
              <a:rPr b="0" lang="en-CA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5F76DE-8FE6-42C3-9F1F-E968E9368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CA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90AFF50-5814-4A25-9C15-DFA6B3114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F651159-9802-44F1-84D0-2B27B6134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4638CD9-1098-4B2A-8CD8-443B13BD3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C establishe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immigration Partnerships (LIPs) in Ontario in two form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ity-wide and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eighbourhood-based LIPs in Toront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4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munity-wide LIPs in Ontario (total cost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$5.2 mill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Note that the amounts are an estim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2B2E8B5-DCFF-487A-9777-BEE1B43DA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419040" y="903240"/>
            <a:ext cx="6019920" cy="4514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5719680"/>
            <a:ext cx="5029200" cy="54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6200" y="11437920"/>
            <a:ext cx="29718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A4B94E2-1974-4C68-9A68-62F970827C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0CFD-924C-4FFB-AE0D-7371AB88A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739-4F7C-4BAC-897E-60E5317A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CA4-FA9D-4199-B0D3-664D1C22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6F7-B4D4-4668-9AE2-BFCA852A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0C67-6EFD-45AC-89CC-DE8C4287E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EA30-2B15-4C30-BFA0-1D6CD893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9E8F-3073-4CF9-9D81-9016FB6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2AC2-8DD5-45BA-9B42-0906DF73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85F8-1170-43EC-A28F-F18D5F8F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C23-B776-4B6D-8DF3-B04D080DB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6CE-C929-4B7A-ABC8-2B08E2D45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153-DBA9-433F-BBC0-44C97020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B32337-9CED-46CF-8429-350F503486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0997BD-8A14-4E28-A26C-54FE70223A8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AB0004-486C-47B7-BC0D-7E82677791B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AD85A-097F-4EB4-9B5B-2B7F82636AD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A0C74-107E-4E01-812F-96E4D2597C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D1F38-D8D6-4C63-8C0E-F391CB70C37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1B96A-5B57-4602-BDD3-2CE67A877D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C0ED2-38CC-4AB6-8BD0-9FDE915EBF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BD1EF-5589-4CE2-ADAD-E1BF2D20A9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0A1163-AAE0-418D-83B3-44E23881E97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D61C0B-AB61-4508-A6B2-4802C95C91E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1D2397-4810-4C7D-8731-109C99B13CB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6FF61-FC4E-4C58-9AD4-8FD16C87F1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1623A-6D0E-450B-91FD-7F83595CF3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A4B898-FF36-4923-96C2-70EF56B9851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642FD2-EB03-4587-9413-25E09C3765E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50BA8C-0CE5-4B1C-94BA-256ACB71281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0B232-8744-4834-B27B-2136116029E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A6A44-F964-4AC6-975A-6E6E733C46A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AD6292-DAC1-4159-8C6C-ABC3488D68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35ED90-177A-4101-9B2B-0D7965CE7F5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EF9EC7-9349-4C1D-B6C5-78BF4A6098D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5A444B-F3C3-4195-AF4D-FA359B949F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B96E7-599A-4AC5-874C-125C493D3A1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148248-AECC-4D56-82C9-BBC9C8AD2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77356-18E3-4A4D-82CB-219652085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9C4214-745D-4075-B372-F97E926E7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1CBE51-5766-4997-9A06-4B2BFFF9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9A09C-A6E8-4A42-9E16-76B8BF71F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F78DE-927E-44CD-9381-125BD3CC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6EAEB1-14FD-4D1E-BEFE-F497439E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7D9621-CD54-4DA7-8F11-13452805E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04386D-41FF-4587-8D4A-22E1E408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23BB1-4836-4C0C-AE63-CC52C849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E5361B-6945-43F1-A820-2D8EEFD15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C5A073-F46E-49C5-9965-0B1B24E69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82B6-6C1D-4ED3-A540-290A220690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slide2backgroun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7"/>
          <p:cNvSpPr/>
          <p:nvPr/>
        </p:nvSpPr>
        <p:spPr>
          <a:xfrm>
            <a:off x="533520" y="990720"/>
            <a:ext cx="8076960" cy="533160"/>
          </a:xfrm>
          <a:prstGeom prst="rect">
            <a:avLst/>
          </a:prstGeom>
          <a:gradFill rotWithShape="0">
            <a:gsLst>
              <a:gs pos="0">
                <a:srgbClr val="1b357d"/>
              </a:gs>
              <a:gs pos="100000">
                <a:srgbClr val="c6d9f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4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F4A72-4D35-4B1D-973B-AC38BCE98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6" descr="corp-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Num" idx="5"/>
          </p:nvPr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93C1-7E3F-40C3-A9A8-3583450BB5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6B721-3EBE-4760-8F12-176AEC410BEF}" type="datetime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E62AF-352C-4EB7-97DB-9F85331A7EAF}" type="slidenum">
              <a:rPr b="0" lang="en-CA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539640" y="4952520"/>
            <a:ext cx="3270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North Etobicoke LIP Summit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Woodbine Convention Centr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June 28</a:t>
            </a:r>
            <a:r>
              <a:rPr b="0" lang="en-US" sz="1500" spc="-1" strike="noStrike" baseline="30000">
                <a:solidFill>
                  <a:srgbClr val="898989"/>
                </a:solidFill>
                <a:latin typeface="Verdana"/>
              </a:rPr>
              <a:t>th</a:t>
            </a:r>
            <a:r>
              <a:rPr b="0" lang="en-US" sz="1500" spc="-1" strike="noStrike">
                <a:solidFill>
                  <a:srgbClr val="898989"/>
                </a:solidFill>
                <a:latin typeface="Verdana"/>
              </a:rPr>
              <a:t>, 2011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539640" y="4149720"/>
            <a:ext cx="6985080" cy="647640"/>
          </a:xfrm>
          <a:prstGeom prst="rect">
            <a:avLst/>
          </a:prstGeom>
          <a:solidFill>
            <a:srgbClr val="26368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Diagram 1" descr=""/>
          <p:cNvPicPr/>
          <p:nvPr/>
        </p:nvPicPr>
        <p:blipFill>
          <a:blip r:embed="rId1"/>
          <a:stretch/>
        </p:blipFill>
        <p:spPr>
          <a:xfrm>
            <a:off x="695160" y="171360"/>
            <a:ext cx="7961400" cy="6448680"/>
          </a:xfrm>
          <a:prstGeom prst="rect">
            <a:avLst/>
          </a:prstGeom>
          <a:ln w="0">
            <a:noFill/>
          </a:ln>
        </p:spPr>
      </p:pic>
      <p:sp>
        <p:nvSpPr>
          <p:cNvPr id="270" name="Oval 2"/>
          <p:cNvSpPr/>
          <p:nvPr/>
        </p:nvSpPr>
        <p:spPr>
          <a:xfrm>
            <a:off x="6121440" y="3059280"/>
            <a:ext cx="1782720" cy="1784160"/>
          </a:xfrm>
          <a:prstGeom prst="ellipse">
            <a:avLst/>
          </a:prstGeom>
          <a:solidFill>
            <a:srgbClr val="558ed5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Oval 6"/>
          <p:cNvSpPr/>
          <p:nvPr/>
        </p:nvSpPr>
        <p:spPr>
          <a:xfrm>
            <a:off x="3186000" y="190440"/>
            <a:ext cx="1782720" cy="1784520"/>
          </a:xfrm>
          <a:prstGeom prst="ellipse">
            <a:avLst/>
          </a:prstGeom>
          <a:solidFill>
            <a:srgbClr val="9a9072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7"/>
          <p:cNvSpPr/>
          <p:nvPr/>
        </p:nvSpPr>
        <p:spPr>
          <a:xfrm>
            <a:off x="2697120" y="1679400"/>
            <a:ext cx="3749760" cy="32752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Oval 8"/>
          <p:cNvSpPr/>
          <p:nvPr/>
        </p:nvSpPr>
        <p:spPr>
          <a:xfrm>
            <a:off x="4572000" y="4594320"/>
            <a:ext cx="1782720" cy="1784160"/>
          </a:xfrm>
          <a:prstGeom prst="ellipse">
            <a:avLst/>
          </a:prstGeom>
          <a:solidFill>
            <a:srgbClr val="e46c0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9"/>
          <p:cNvSpPr/>
          <p:nvPr/>
        </p:nvSpPr>
        <p:spPr>
          <a:xfrm>
            <a:off x="4572000" y="209520"/>
            <a:ext cx="1782720" cy="1782720"/>
          </a:xfrm>
          <a:prstGeom prst="ellipse">
            <a:avLst/>
          </a:prstGeom>
          <a:solidFill>
            <a:srgbClr val="ccc1da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Oval 10"/>
          <p:cNvSpPr/>
          <p:nvPr/>
        </p:nvSpPr>
        <p:spPr>
          <a:xfrm>
            <a:off x="5705640" y="936720"/>
            <a:ext cx="1782720" cy="1782720"/>
          </a:xfrm>
          <a:prstGeom prst="ellipse">
            <a:avLst/>
          </a:prstGeom>
          <a:solidFill>
            <a:srgbClr val="4f81bd">
              <a:alpha val="5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1"/>
          <p:cNvSpPr/>
          <p:nvPr/>
        </p:nvSpPr>
        <p:spPr>
          <a:xfrm>
            <a:off x="3313080" y="3013200"/>
            <a:ext cx="246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dern No. 20"/>
              </a:rPr>
              <a:t>Partnership Cou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2"/>
          <p:cNvSpPr/>
          <p:nvPr/>
        </p:nvSpPr>
        <p:spPr>
          <a:xfrm>
            <a:off x="3405240" y="662040"/>
            <a:ext cx="1166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Municip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3"/>
          <p:cNvSpPr/>
          <p:nvPr/>
        </p:nvSpPr>
        <p:spPr>
          <a:xfrm>
            <a:off x="5924520" y="158580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aith-based/ethnic organiz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4749840" y="560520"/>
            <a:ext cx="1631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Chambers of Commerce/Employ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5"/>
          <p:cNvSpPr/>
          <p:nvPr/>
        </p:nvSpPr>
        <p:spPr>
          <a:xfrm>
            <a:off x="6316560" y="2781360"/>
            <a:ext cx="18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Training Boa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6"/>
          <p:cNvSpPr/>
          <p:nvPr/>
        </p:nvSpPr>
        <p:spPr>
          <a:xfrm>
            <a:off x="6288120" y="383544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Social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7"/>
          <p:cNvSpPr/>
          <p:nvPr/>
        </p:nvSpPr>
        <p:spPr>
          <a:xfrm>
            <a:off x="6242040" y="5038560"/>
            <a:ext cx="1484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Health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8"/>
          <p:cNvSpPr/>
          <p:nvPr/>
        </p:nvSpPr>
        <p:spPr>
          <a:xfrm>
            <a:off x="5084640" y="5719680"/>
            <a:ext cx="1101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Feder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9"/>
          <p:cNvSpPr/>
          <p:nvPr/>
        </p:nvSpPr>
        <p:spPr>
          <a:xfrm>
            <a:off x="3686040" y="5700600"/>
            <a:ext cx="103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Provincial Gover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0"/>
          <p:cNvSpPr/>
          <p:nvPr/>
        </p:nvSpPr>
        <p:spPr>
          <a:xfrm>
            <a:off x="2146320" y="4908600"/>
            <a:ext cx="1492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ducational Institu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1"/>
          <p:cNvSpPr/>
          <p:nvPr/>
        </p:nvSpPr>
        <p:spPr>
          <a:xfrm>
            <a:off x="1193760" y="387180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Employment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22"/>
          <p:cNvSpPr/>
          <p:nvPr/>
        </p:nvSpPr>
        <p:spPr>
          <a:xfrm>
            <a:off x="1465200" y="2211480"/>
            <a:ext cx="1660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ocal Settlement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23"/>
          <p:cNvSpPr/>
          <p:nvPr/>
        </p:nvSpPr>
        <p:spPr>
          <a:xfrm>
            <a:off x="2257560" y="1044720"/>
            <a:ext cx="103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Miriam Fixed"/>
                <a:ea typeface="Miriam Fixed"/>
              </a:rPr>
              <a:t>Libr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21"/>
          <p:cNvSpPr/>
          <p:nvPr/>
        </p:nvSpPr>
        <p:spPr>
          <a:xfrm>
            <a:off x="6804000" y="62373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86F4A-1FD2-4639-B9C5-70E672647B22}" type="slidenum">
              <a:rPr b="0" lang="en-CA" sz="12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Chart 1" descr=""/>
          <p:cNvPicPr/>
          <p:nvPr/>
        </p:nvPicPr>
        <p:blipFill>
          <a:blip r:embed="rId1"/>
          <a:stretch/>
        </p:blipFill>
        <p:spPr>
          <a:xfrm>
            <a:off x="-19080" y="-19080"/>
            <a:ext cx="9182160" cy="689616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2"/>
          <p:cNvSpPr/>
          <p:nvPr/>
        </p:nvSpPr>
        <p:spPr>
          <a:xfrm>
            <a:off x="8459640" y="6308640"/>
            <a:ext cx="684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303F-9D12-46D7-9C8B-3445207BBD86}" type="slidenum">
              <a:rPr b="0" lang="en-CA" sz="1800" spc="-1" strike="noStrike">
                <a:solidFill>
                  <a:srgbClr val="1f497d"/>
                </a:solidFill>
                <a:latin typeface="Arial"/>
                <a:ea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reate LIPs networking mechanis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Establish a policy forum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Identify professional development  opportuniti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Next Step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9FA62-723F-4A59-B252-52BA10F69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 txBox="1"/>
          <p:nvPr/>
        </p:nvSpPr>
        <p:spPr>
          <a:xfrm>
            <a:off x="685440" y="1571400"/>
            <a:ext cx="80010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Organizational best practic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Sectoral and cross-sectoral best practic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ataset tool for assessment of a Welcoming Community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Assessment and Learning Dissemination too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Developmental Evaluation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Methods of Assess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41DA-406F-40D0-9FDF-680468118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533160" y="5214600"/>
            <a:ext cx="3276360" cy="88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Franklin Gothic Medium"/>
                <a:ea typeface="FrankRuehl"/>
              </a:rPr>
              <a:t>Thank You ~ Merc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LIPs stems from the Canada-Ontario Immigration Agreement Strategic Plan, Strategy 3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CIC and MCI (Ministry of Citizenship and Immigration) will work with municipalities and federal-provincial government departments to enable partnerships that will integrate newcomers into the economic and social life of Ontario communities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Arial"/>
              </a:rPr>
              <a:t>CIC and MCI developed the LIP initiative, which was further refined, in consultation with the Association of Municipalities of Ontario (AMO) and the City of Toront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1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684C-871E-4923-8531-B2EDC51541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9280" y="162864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and regions want to encourage newcomers to settle and stay in their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ommunities that are organized, welcoming, and committed to helping newcomers succeed have the best potential to attract and retain new immigrant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Local knowledge of the service delivery landscape is essential to building logical, clear, and coordinated settlement service pathway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ntario municipalities want to provide a community lens on integration of funding decisions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Why LI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DCFA-94CA-472D-A270-E5D8319AD0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539280" y="148428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The objective of LIPs is to strengthen the role of regions and local communities in the integration of newcomers b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better coordination of integration services, including settlement and language training in local communi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Providing a framework to facilitate the development and implementation of sustainable local and regional solu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Supporting the development and implementation of strategies and plans that provide</a:t>
            </a:r>
            <a:r>
              <a:rPr b="1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community-specific</a:t>
            </a: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 solutions for achieving better outcomes for newcom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F8C5-942B-4829-9370-C3D56101A6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440" y="144792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Approximately 34 of the 45 LIPs are in the implementation st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CIC continues to support the LIPs’ ability to meet and coordinate their action pla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200" spc="-1" strike="noStrike">
                <a:solidFill>
                  <a:srgbClr val="000000"/>
                </a:solidFill>
                <a:latin typeface="Arial"/>
                <a:ea typeface="SimSun"/>
              </a:rPr>
              <a:t>LIPs are being rolled out nationally in those provinces that currently are not devolv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914040"/>
            <a:ext cx="8001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CA" sz="2800" spc="-1" strike="noStrike">
                <a:solidFill>
                  <a:srgbClr val="ffffff"/>
                </a:solidFill>
                <a:latin typeface="Arial"/>
                <a:ea typeface="Arial"/>
              </a:rPr>
              <a:t>LIPs Updat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42E3F-F0DB-49A2-A365-782DD7D15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Slide Number Placeholder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52134-C054-4C85-B3C4-2DB092EAF0D3}" type="slidenum">
              <a:rPr b="0" lang="en-CA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Diagram 2" descr=""/>
          <p:cNvPicPr/>
          <p:nvPr/>
        </p:nvPicPr>
        <p:blipFill>
          <a:blip r:embed="rId1"/>
          <a:stretch/>
        </p:blipFill>
        <p:spPr>
          <a:xfrm>
            <a:off x="122400" y="615960"/>
            <a:ext cx="882000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Greater Toronto Area Local Immigration Partnershi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11D6-7385-471E-84F4-3AE9D7BDF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http://boscleaners.ca/wp-content/uploads/2010/06/Cleaning-Services-in-the-Toronto-Map.gif"/>
          <p:cNvPicPr/>
          <p:nvPr/>
        </p:nvPicPr>
        <p:blipFill>
          <a:blip r:embed="rId1"/>
          <a:stretch/>
        </p:blipFill>
        <p:spPr>
          <a:xfrm>
            <a:off x="536400" y="1566720"/>
            <a:ext cx="7931160" cy="465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Local Immigration Partnerships in Ontario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02FC-8B5E-4EFC-B51B-81C4D1CF71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rcRect l="34920" t="36025" r="35388" b="12768"/>
          <a:stretch/>
        </p:blipFill>
        <p:spPr>
          <a:xfrm>
            <a:off x="684360" y="1484280"/>
            <a:ext cx="7704000" cy="4730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376092"/>
                </a:solidFill>
                <a:latin typeface="Arial"/>
                <a:ea typeface="Arial"/>
              </a:rPr>
              <a:t>City of Toronto Neighbourhood Local Immigration Partnerships &amp; City Wide LI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2"/>
          <p:cNvSpPr/>
          <p:nvPr/>
        </p:nvSpPr>
        <p:spPr>
          <a:xfrm>
            <a:off x="8229600" y="6356520"/>
            <a:ext cx="838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2F999-ED66-4443-B978-F638E5956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1"/>
          <a:srcRect l="12362" t="20525" r="29330" b="12116"/>
          <a:stretch/>
        </p:blipFill>
        <p:spPr>
          <a:xfrm>
            <a:off x="785880" y="1600200"/>
            <a:ext cx="7500960" cy="46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6T16:36:58Z</dcterms:created>
  <dc:creator>*</dc:creator>
  <dc:description/>
  <dc:language>en-US</dc:language>
  <cp:lastModifiedBy>Park Inn Guests</cp:lastModifiedBy>
  <dcterms:modified xsi:type="dcterms:W3CDTF">2011-06-23T13:45:42Z</dcterms:modified>
  <cp:revision>131</cp:revision>
  <dc:subject/>
  <dc:title>PowerPoint Presentation</dc:title>
</cp:coreProperties>
</file>